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CAC-C8CA-4A5E-83AA-EBF36D4E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821-2924-4C4C-AEBD-95C7B6EF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118-477A-4232-8C13-5EEBE22F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8B3-C396-4156-AF97-D71578C0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063-66C6-4F39-9536-80E04314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9D9-1ACF-4DE4-A583-9B35B49E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BFD-6C63-4DD8-9982-BBC11CE1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203-6781-4665-9D7E-BA6C16AD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9D3F-C1D7-4500-AA9E-AB41F2C3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5FA-C861-477E-9950-C8491D36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F55-32E0-490B-B37F-4787A7E6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810-8328-46AC-A572-90CF89B1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3750-DE46-48EA-A352-FCE39EE35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yeshivaworld.com/wp-content/uploads/2008/06/mikvah.jpg&amp;imgrefurl=http://theyeshivaworld.com/article.php%3Fs%3Dmikva&amp;h=419&amp;w=480&amp;sz=48&amp;hl=en&amp;start=4&amp;usg=__8QpGiFg3YH8NEC43b9m-Y_LeAWc=&amp;tbnid=ejRWfZiPOS6M6M:&amp;tbnh=113&amp;tbnw=129&amp;prev=/images%3Fq%3Dwoman%2Bin%2Bmikve%26gbv%3D2%26hl%3D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image60.webshots.com/160/6/75/82/2022675820086161017clHQuZ_fs.jpg&amp;imgrefurl=http://travel.webshots.com/photo/2022675820086161017clHQuZ&amp;h=1704&amp;w=2272&amp;sz=478&amp;hl=en&amp;start=10&amp;usg=__PXJAqX2t3pkJSg95Y9deQHaCAHA=&amp;tbnid=YZqBTpJjsifBgM:&amp;tbnh=112&amp;tbnw=150&amp;prev=/images%3Fq%3Dwoman%2Bin%2Bmikve%26gbv%3D2%26hl%3Den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newsimg.bbc.co.uk/media/images/44086000/jpg/_44086687_haredi203_1.jpg&amp;imgrefurl=http://news.bbc.co.uk/1/low/world/middle_east/6970195.stm&amp;h=220&amp;w=203&amp;sz=16&amp;hl=en&amp;start=8&amp;usg=__0PXFGfIJSM-1hDt8fd4Bg4R4yNw=&amp;tbnid=wWXR1k5TGNdHNM:&amp;tbnh=107&amp;tbnw=99&amp;prev=/images%3Fq%3Dmea%2Bshearim%2Byeshiva%26gbv%3D2%26hl%3De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magnumphotos.com/CoreXDoc/MAG/Media/TR6/S/A/5/K/NYC19858.jpg&amp;imgrefurl=http://www.magnumphotos.com/Archive/C.aspx%3FVP%3DXSpecific_MAG.DirectSearch_VPage%26KWID%3D2TYRF9P7KUD%26SSO%3DT&amp;h=192&amp;w=132&amp;sz=9&amp;hl=en&amp;start=18&amp;usg=__Dh9siaZK86TVTDSsYorsilmfnp8=&amp;tbnid=CeS41I9Y8njNEM:&amp;tbnh=103&amp;tbnw=71&amp;prev=/images%3Fq%3Dmea%2Bshearim%2Byeshiva%26gbv%3D2%26hl%3Den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u.edu/uploadedImages/CENTER_FOR_THE_JEWISH_FUTURE/israel_school.jpg&amp;imgrefurl=http://www.yu.edu/cjf/page.aspx%3Fid%3D18498&amp;h=301&amp;w=560&amp;sz=34&amp;hl=en&amp;start=4&amp;usg=__exR6DGt67RGu2HWjmhyNJ_qFENQ=&amp;tbnid=9yDhryLUru-btM:&amp;tbnh=71&amp;tbnw=133&amp;prev=/images%3Fq%3Dwomen%2Bstudying%2Bin%2Byeshiva%26gbv%3D2%26hl%3De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u.edu/uploadedImages/STERN/ACADEMIC__LIFE/ACADEMIC_ADVISEMENT/girls%2520studying.jpg&amp;imgrefurl=http://www.yu.edu/stern/page.aspx%3Fid%3D4694&amp;h=315&amp;w=480&amp;sz=37&amp;hl=en&amp;start=7&amp;usg=__P5QQZFmEh7K97pchO_LA2uOUxso=&amp;tbnid=FVAmAeNV3cwMyM:&amp;tbnh=85&amp;tbnw=129&amp;prev=/images%3Fq%3Dwomen%2Bstudying%2Bin%2Byeshiva%26gbv%3D2%26hl%3Den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epel.org/chawed.gif&amp;imgrefurl=http://www.tepel.org/&amp;h=255&amp;w=261&amp;sz=24&amp;hl=en&amp;start=1&amp;usg=__UIferplIGcBSb1vpjYDXs87vF-g=&amp;tbnid=LxuS0ZCI3RrxWM:&amp;tbnh=109&amp;tbnw=112&amp;prev=/images%3Fq%3Dwedding%2Bin%2Bmea%2Bshearim%26gbv%3D2%26hl%3Den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8/89/Jewish_wedding_Vienna_Jan_2007_006.jpg&amp;imgrefurl=http://commons.wikimedia.org/wiki/Image:Jewish_wedding_Vienna_Jan_2007_006.jpg&amp;h=1200&amp;w=1600&amp;sz=387&amp;hl=en&amp;start=2&amp;usg=__N8O-x-e3sFrH9dDKmQDC9R2hT70=&amp;tbnid=ee18WTrtUn1sJM:&amp;tbnh=113&amp;tbnw=150&amp;prev=/images%3Fq%3Dorthodox%2Bjewish%2Bwedding%26gbv%3D2%26hl%3Den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2.blogger.com/_yM0I3p8o_04/R_LWCYwJmkI/AAAAAAAAALg/05Nw69Cvkd8/s400/danceBW.jpg&amp;imgrefurl=http://whereintheworldisilene.blogspot.com/2008/03/attending-orthodox-jewish-wedding.html&amp;h=267&amp;w=400&amp;sz=30&amp;hl=en&amp;start=3&amp;usg=__eIdaJISLAWWA0q6-Nle4TnDRboM=&amp;tbnid=Pzm3kHzvR5-y2M:&amp;tbnh=83&amp;tbnw=124&amp;prev=/images%3Fq%3Dorthodox%2Bjewish%2Bwedding%26gbv%3D2%26hl%3Den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newsimg.bbc.co.uk/media/images/42083000/jpg/_42083512_punkpurimbig.jpg&amp;imgrefurl=http://news.bbc.co.uk/1/hi/in_pictures/5338714.stm&amp;h=300&amp;w=416&amp;sz=24&amp;hl=en&amp;start=48&amp;usg=__-M4TPfSFXMa5g-B1tVY-MioC1pE=&amp;tbnid=BvgERZJwi7EafM:&amp;tbnh=90&amp;tbnw=125&amp;prev=/images%3Fq%3Dwomen%2Bdancing%2Bat%2Bjewish%2Bwedding%26start%3D40%26gbv%3D2%26ndsp%3D20%26hl%3Den%26sa%3DN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lickwit.net/images/charlottes-jewish-wedding12.jpg&amp;imgrefurl=http://www.flickwit.net/sex-and-the-city-season-six/&amp;h=316&amp;w=506&amp;sz=35&amp;hl=en&amp;start=62&amp;usg=__MUdAdUqSViTXk0cSwKNmUvN90Yw=&amp;tbnid=CV_MCFRGnVENQM:&amp;tbnh=82&amp;tbnw=131&amp;prev=/images%3Fq%3Dwomen%2Bdancing%2Bat%2Bjewish%2Bwedding%26start%3D60%26gbv%3D2%26ndsp%3D20%26hl%3Den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trealphotography.com/images/galleries/anticipation/jewish_bride.jpg&amp;imgrefurl=http://www.getrealphotography.com/images/galleries/anticipation/&amp;h=450&amp;w=678&amp;sz=62&amp;hl=en&amp;start=59&amp;usg=__ngPBaKycGAu7o9OsqflFV2M_sFs=&amp;tbnid=8Xo7pbw_yRy-_M:&amp;tbnh=92&amp;tbnw=139&amp;prev=/images%3Fq%3Djewish%2Bbride%26start%3D40%26gbv%3D2%26ndsp%3D20%26hl%3Den%26sa%3DN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7/70/Breslov_kids_prepare_for_Shabbat,_Mea_Shearim,_Jerusalem.jpg&amp;imgrefurl=http://commons.wikimedia.org/wiki/Image:Breslov_kids_prepare_for_Shabbat,_Mea_Shearim,_Jerusalem.jpg&amp;h=768&amp;w=1024&amp;sz=491&amp;hl=en&amp;start=2&amp;usg=__UIo_ldUQmDM7tnnA3C_EX1rKqvs=&amp;tbnid=qIrIN5VBP4LLfM:&amp;tbnh=113&amp;tbnw=150&amp;prev=/images%3Fq%3Dmea%2Bshearim%2Bjerusalem%26gbv%3D2%26hl%3Den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rownheights.info/media/Campers%2520learn%2520Jewish%2520tradition/1.jpg&amp;imgrefurl=http://www.crownheights.info/%3F%26blogid%3D1%26archive%3D2008-07&amp;h=310&amp;w=424&amp;sz=31&amp;hl=en&amp;start=7&amp;usg=__OKhjVPWq4UrSbA_E9ibTvF-UyC0=&amp;tbnid=L92FotKqSBsxzM:&amp;tbnh=92&amp;tbnw=126&amp;prev=/images%3Fq%3Djewish%2Bgroom%2B%2Bmale%26gbv%3D2%26hl%3De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3.blogger.com/_uftmRIkAyHc/Rstq79M3bQI/AAAAAAAAANM/pThNbneWqYg/s320/chanhena.jpg&amp;imgrefurl=http://hochmaumusar.blogspot.com/2007_08_01_archive.html&amp;h=221&amp;w=320&amp;sz=24&amp;hl=en&amp;start=8&amp;usg=__ipgFDBCF8vzvk6VN9lrEkJUfzEA=&amp;tbnid=q6hdercbNzx39M:&amp;tbnh=81&amp;tbnw=118&amp;prev=/images%3Fq%3Djewish%2Bgroom%2B%2Bmale%26gbv%3D2%26hl%3Den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ewishworldreview.com/bride.gif&amp;imgrefurl=http://jewishrefugees.blogspot.com/2006/09/origins-and-history-of-jews-of-yemen.html&amp;h=428&amp;w=233&amp;sz=51&amp;hl=en&amp;start=4&amp;usg=__EkB7aVIv2V4FKb7OWDOMGf_Wtdw=&amp;tbnid=2FAk0d7fx4Pk3M:&amp;tbnh=126&amp;tbnw=69&amp;prev=/images%3Fq%3Dbride%2Bform%2Byemen%2Bjewish%26gbv%3D2%26hl%3De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ecx.images-amazon.com/images/I/218DBX932GL.jpg&amp;imgrefurl=http://jewishrefugees.blogspot.com/2008/03/yemenite-jewish-flight-led-to-loss-of.html&amp;h=160&amp;w=160&amp;sz=8&amp;hl=en&amp;start=15&amp;usg=__u4svRmcUCu5uH0vo9R0Z9xKcjos=&amp;tbnid=ZTXOb-GJdPU_JM:&amp;tbnh=98&amp;tbnw=98&amp;prev=/images%3Fq%3Dbride%2Bform%2Byemen%2Bjewish%26gbv%3D2%26hl%3Den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3.static.flickr.com/2178/2457222229_9b17e30e96.jpg&amp;imgrefurl=http://www.flickr.com/photos/10227535%40N08/2457222229/&amp;h=500&amp;w=347&amp;sz=130&amp;hl=en&amp;start=5&amp;usg=__D2dSHc1vb0SuKPyuJCEHU2cvtj4=&amp;tbnid=lqGftE9Si5fM0M:&amp;tbnh=130&amp;tbnw=90&amp;prev=/images%3Fq%3Dyemenite%2Bjewish%2Bwedding%26gbv%3D2%26hl%3Den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1.blogger.com/_uftmRIkAyHc/Rsd-wdM3bBI/AAAAAAAAALU/Ja_5ql1HWrE/s320/Yemenite%2BBride%2Band%2BGroom.jpg&amp;imgrefurl=http://hochmaumusar.blogspot.com/2007_08_01_archive.html&amp;h=220&amp;w=320&amp;sz=33&amp;hl=en&amp;start=8&amp;usg=__xBlg5RZvJX46r84rSA8A3EIrzGI=&amp;tbnid=ag7Y1OWKSzUdZM:&amp;tbnh=81&amp;tbnw=118&amp;prev=/images%3Fq%3Dyemenite%2Bjewish%2Bwedding%26gbv%3D2%26hl%3Den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1/11/Panneau_mea_shearim.jpg&amp;imgrefurl=http://commons.wikimedia.org/wiki/Image:Panneau_mea_shearim.jpg&amp;h=1920&amp;w=2560&amp;sz=1791&amp;hl=en&amp;start=4&amp;usg=__9fFdPJC3WKO4ehc_AJN_HyDpRZw=&amp;tbnid=M611Fs9sP5K3RM:&amp;tbnh=113&amp;tbnw=150&amp;prev=/images%3Fq%3Dmea%2Bshearim%26gbv%3D2%26hl%3De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netnews.com/PicServer2/20122005/810755/9_wa.jpg&amp;imgrefurl=http://www.ynetnews.com/articles/0,7340,L-3340111,00.html&amp;h=272&amp;w=408&amp;sz=27&amp;hl=en&amp;start=21&amp;usg=__x92PQjVumvRHdEmYf1uAn-9qzLQ=&amp;tbnid=S6-HLFPwX97BrM:&amp;tbnh=83&amp;tbnw=125&amp;prev=/images%3Fq%3Dmea%2Bshearim%26start%3D20%26gbv%3D2%26ndsp%3D20%26hl%3Den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raelity.com/wp-content/uploads/2008/01/mea%2Bshearim%2B3.jpg&amp;imgrefurl=http://www.israelity.com/%3Fp%3D4378&amp;h=270&amp;w=360&amp;sz=58&amp;hl=en&amp;start=11&amp;usg=__rio2tRolPJMCdOAE5Ovz-TcAjjs=&amp;tbnid=IORtCEbiPcM3zM:&amp;tbnh=91&amp;tbnw=121&amp;prev=/images%3Fq%3Dmea%2Bshearim%26gbv%3D2%26hl%3Den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ewishart.brinkster.net/uploaded_images/mea-775110.jpg&amp;imgrefurl=http://www.mimaamakim.org/archive/2005_09_01_archive.html&amp;h=768&amp;w=1024&amp;sz=186&amp;hl=en&amp;start=36&amp;usg=__ldD3S4m2zI-KXH9AtNuF5AWCEQ8=&amp;tbnid=rHxHBprcdEoE7M:&amp;tbnh=113&amp;tbnw=150&amp;prev=/images%3Fq%3Dmea%2Bshearim%26start%3D20%26gbv%3D2%26ndsp%3D20%26hl%3Den%26sa%3DN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arm1.static.flickr.com/46/148329707_9e81d9ad33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farm1.static.flickr.com/48/148330104_a1d53e3b0b.jpg&amp;imgrefurl=http://www.flickr.com/photos/53848312%40N00/148330104&amp;h=322&amp;w=500&amp;sz=93&amp;hl=en&amp;start=9&amp;usg=__OZAT1ilPHMCUS9b5baiqNToLfFQ=&amp;tbnid=hMmf26_yfdzIPM:&amp;tbnh=84&amp;tbnw=130&amp;prev=/images%3Fq%3Dmea%2Bshearim%2Bjerusalem%26gbv%3D2%26hl%3Den%26sa%3D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erusalemshots.com/i/uploaded/1110114733.jpg&amp;imgrefurl=http://www.jerusalemshots.com/Jerusalem_en0-2775.html&amp;h=449&amp;w=479&amp;sz=91&amp;hl=en&amp;start=23&amp;usg=__9U1ZMs9xmXbx2X7k6qWR776a9qU=&amp;tbnid=0E-HWSPr7ByZ4M:&amp;tbnh=121&amp;tbnw=129&amp;prev=/images%3Fq%3Dmea%2Bshearim%26start%3D20%26gbv%3D2%26ndsp%3D20%26hl%3Den%26sa%3DN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s.cmu.edu/~rys/pictures/israel_summer06/bigs/CIMG0679.JPG&amp;imgrefurl=http://www.cs.cmu.edu/~rys/pictures/pictures.html&amp;h=480&amp;w=640&amp;sz=293&amp;hl=en&amp;start=27&amp;usg=__Dp4m8ev3YB688V0cNGymD4pjVAI=&amp;tbnid=kGkZi8T93hOSDM:&amp;tbnh=103&amp;tbnw=137&amp;prev=/images%3Fq%3Dmea%2Bshearim%26start%3D20%26gbv%3D2%26ndsp%3D20%26hl%3Den%26sa%3DN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orldofstock.com/slides/PCU1439.jpg&amp;imgrefurl=http://www.worldofstock.com/closeups/PCU1439.php&amp;h=500&amp;w=342&amp;sz=38&amp;hl=en&amp;start=28&amp;usg=__LLutyeU9xfYcsxCDrIf_0vOawTU=&amp;tbnid=ZpUfXknWrtKfzM:&amp;tbnh=130&amp;tbnw=89&amp;prev=/images%3Fq%3Dmea%2Bshearim%26start%3D20%26gbv%3D2%26ndsp%3D20%26hl%3Den%26sa%3DN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inuj.net/articulos/750/Mikve.jpg&amp;imgrefurl=http://jinuj.net/articulos_ver.php%3Fid%3D750&amp;h=267&amp;w=400&amp;sz=30&amp;hl=en&amp;start=3&amp;usg=__q8d2FkNLQ-Py1WMcaYmhDpcJuws=&amp;tbnid=eqKzfy0pU0C2tM:&amp;tbnh=83&amp;tbnw=124&amp;prev=/images%3Fq%3Dmikve%26gbv%3D2%26hl%3Den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emplenashville.org/_new_site/3_beit_tefillah/life_cycle_events/images/jewish-wedding.jpg&amp;imgrefurl=http://www.templenashville.org/_new_site/3_beit_tefillah/life_cycle_events/weddings.htm&amp;h=493&amp;w=345&amp;sz=37&amp;hl=en&amp;start=8&amp;usg=__7kuvzS0RrnkIIW5L_sSaXREkEx4=&amp;tbnid=tbOn7acRR7zz8M:&amp;tbnh=130&amp;tbnw=91&amp;prev=/images%3Fq%3Djewish%2Bwedding%26gbv%3D2%26hl%3Den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hoto.net/bboard-uploads/00AVqF-21012884.jpg&amp;imgrefurl=http://jewishweddingsblog.blogspot.com/2007/12/badeken-bride-veiling-ceremony.html&amp;h=360&amp;w=504&amp;sz=232&amp;hl=en&amp;start=56&amp;usg=__7kYObOsVhCylUC49xQ1h0tozetQ=&amp;tbnid=9SVY7zTIPGikaM:&amp;tbnh=93&amp;tbnw=130&amp;prev=/images%3Fq%3Djewish%2Bwedding%26start%3D40%26gbv%3D2%26ndsp%3D20%26hl%3Den%26sa%3DN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eresasstudio.com/jewish%2520bride.jpg&amp;imgrefurl=http://www.teresasstudio.com/images.htm&amp;h=376&amp;w=376&amp;sz=42&amp;hl=en&amp;start=15&amp;usg=__mxrQ24eKIjLE8Z0lVyxcUlJrh-c=&amp;tbnid=KfL1scu45kDwuM:&amp;tbnh=122&amp;tbnw=122&amp;prev=/images%3Fq%3Djewish%2Bbride%26gbv%3D2%26hl%3Den" TargetMode="External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-2.web.britannica.com/eb-media/32/3732-004-F93B381F.jpg&amp;imgrefurl=http://www.britannica.com/EBchecked/topic-art/497584/76049/Portrait-historie-as-Isaac-and-Rebecca-oil-on-canvas-by&amp;h=300&amp;w=440&amp;sz=45&amp;hl=en&amp;start=2&amp;usg=__gk51Kg4X9nQEfLM1_5JEqSSHyiY=&amp;tbnid=opQsWNrrtlnjfM:&amp;tbnh=87&amp;tbnw=127&amp;prev=/images%3Fq%3Djewish%2Bbride%26gbv%3D2%26hl%3Den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1/11/Panneau_mea_shearim.jpg&amp;imgrefurl=http://commons.wikimedia.org/wiki/Image:Panneau_mea_shearim.jpg&amp;h=1920&amp;w=2560&amp;sz=1791&amp;hl=en&amp;start=4&amp;usg=__9fFdPJC3WKO4ehc_AJN_HyDpRZw=&amp;tbnid=M611Fs9sP5K3RM:&amp;tbnh=113&amp;tbnw=150&amp;prev=/images%3Fq%3Dmea%2Bshearim%26gbv%3D2%26hl%3Den%26sa%3D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ancarrow-webdesk.com/warehouse/storage2/2008-w11/img.162377_t.jpg&amp;imgrefurl=http://www.nancarrow-webdesk.com/warehouse/storage2/2008-w11/img.162377.html&amp;h=278&amp;w=400&amp;sz=16&amp;hl=en&amp;start=36&amp;usg=__hflXP2Q3ArZL6ek3TxgIrmcUQvs=&amp;tbnid=uwAO3l5YMt3YSM:&amp;tbnh=86&amp;tbnw=124&amp;prev=/images%3Fq%3Dmea%2Bshearim%2Bjerusalem%26start%3D20%26gbv%3D2%26ndsp%3D20%26hl%3Den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3.blogger.com/_k95DnR-pqGQ/R--ckSf5bwI/AAAAAAAAAzc/ivVAoTfwsZQ/s400/450px-Beis_Medrash_Toiroh_Veyiroh.jpe&amp;imgrefurl=http://chassidicstories.blogspot.com/2008/03/kleiner-berblick-die-neturei-karta.html&amp;h=400&amp;w=300&amp;sz=29&amp;hl=en&amp;start=175&amp;usg=__g7xDy7pzxrChZCcSWeQ6Snpt3Aw=&amp;tbnid=DGNlYK-fgqNFPM:&amp;tbnh=124&amp;tbnw=93&amp;prev=/images%3Fq%3Dmea%2Bshearim%2Bjerusalem%26start%3D160%26gbv%3D2%26ndsp%3D20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iamiherald.typepad.com/gaysouthflorida/WindowsLiveWriter/MIDEAST_ISRAEL_JERUSALEM_GA5_thumb.jpg&amp;imgrefurl=http://miamiherald.typepad.com/gaysouthflorida/2008/06/photo-gallery-j.html&amp;h=288&amp;w=430&amp;sz=53&amp;hl=en&amp;start=41&amp;usg=__rw_dqHI9a9llYXozrYKeg1vqcLY=&amp;tbnid=cMYfWtMNGZ6kDM:&amp;tbnh=84&amp;tbnw=126&amp;prev=/images%3Fq%3Dmea%2Bshearim%2Bjerusalem%26start%3D40%26gbv%3D2%26ndsp%3D20%26hl%3Den%26sa%3D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yeshivaworld.com/wp-content/uploads/2008/06/mikvah.jpg&amp;imgrefurl=http://theyeshivaworld.com/article.php%3Fs%3Dmikva&amp;h=419&amp;w=480&amp;sz=48&amp;hl=en&amp;start=1&amp;usg=__0DATvmbNFMRX45DaLxbBGzBxJA8=&amp;tbnid=ejRWfZiPOS6M6M:&amp;tbnh=113&amp;tbnw=129&amp;prev=/images%3Fq%3Dmikve%2Bin%2B%2Bjerusalem%26gbv%3D2%26hl%3D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bp2.blogger.com/_fXV0UY7RBiQ/RltdAdIcK6I/AAAAAAAAAAc/JXX9m2KSTlo/s400/004mikve.JPG&amp;imgrefurl=http://www.razart.blogspot.com/&amp;h=283&amp;w=400&amp;sz=28&amp;hl=en&amp;start=23&amp;usg=__6mNEJWF4UwcojvMBxcyXFqTRG7U=&amp;tbnid=LOQgwjBg0DrtfM:&amp;tbnh=88&amp;tbnw=124&amp;prev=/images%3Fq%3Dmikve%2Bin%2B%2Bjerusalem%26start%3D20%26gbv%3D2%26ndsp%3D20%26hl%3Den%26sa%3DN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amafestival.hu/content/_common/images/eloadasok/mikve/mikve13.jpg&amp;imgrefurl=http://www.dramafestival.hu/index.php%3Fpageid%3D44%26language%3Den&amp;h=1726&amp;w=1890&amp;sz=1601&amp;hl=en&amp;start=5&amp;usg=__EtlU-8O1A49qVwGVfLwOyd1r9O0=&amp;tbnid=EnMJLv8IqGNNNM:&amp;tbnh=137&amp;tbnw=150&amp;prev=/images%3Fq%3Dwoman%2Bin%2Bmikve%26gbv%3D2%26hl%3De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biblelieux.com/images/Mikve_sous_la_Triple_Porte_tb_n102300.jpg&amp;imgrefurl=http://www.biblelieux.com/sud_du_mont_du_temple.htm&amp;h=300&amp;w=400&amp;sz=41&amp;hl=en&amp;start=3&amp;usg=__Dv20w17b8jeGxe2ouVQh0tsxj4w=&amp;tbnid=7EjScZPecuHeBM:&amp;tbnh=93&amp;tbnw=124&amp;prev=/images%3Fq%3Dmikve%2Bin%2B%2Bjerusalem%26gbv%3D2%26hl%3De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m/imgres?imgurl=http://www.lmsonline.org/mikveh.jpg&amp;imgrefurl=http://www.lmsonline.org/mikveh.asp&amp;h=512&amp;w=640&amp;sz=25&amp;hl=en&amp;start=1&amp;usg=__IYo7GH99SUl9XB1D2kGXRTJMi-M=&amp;tbnid=UFpPFXpzc9EX7M:&amp;tbnh=110&amp;tbnw=137&amp;prev=/images%3Fq%3Dwoman%2Bin%2Bmikve%26gbv%3D2%26hl%3De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אה  שערים 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כונה  בירושל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3930480"/>
            <a:ext cx="3276720" cy="2505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1840" y="2362320"/>
            <a:ext cx="2139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קווה  זה  מקום  עם מים טהורי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981080"/>
            <a:ext cx="3733560" cy="3270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1889280"/>
            <a:ext cx="43434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מאה שערים הילדים, הבחורים והגברים _______ בישיב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752480"/>
            <a:ext cx="3033720" cy="327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057400"/>
            <a:ext cx="3308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בחורות הצעירות לומדות עד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_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179800"/>
            <a:ext cx="655308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בחורות  ______  בישיבה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עד גיל  _____  או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076480"/>
            <a:ext cx="55627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בחורות הדתיות ______  בגיל </a:t>
            </a:r>
            <a:br>
              <a:rPr sz="4000"/>
            </a:b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או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286000"/>
            <a:ext cx="33526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_____  של גבר ואישה דתי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996920"/>
            <a:ext cx="4267440" cy="32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תונה  הגב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800360"/>
            <a:ext cx="525780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תונה  הנשים  ג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447920"/>
            <a:ext cx="60195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חתן  וה_______  מתחתנים בחתונ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798560"/>
            <a:ext cx="502920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 _____  יהוד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838160"/>
            <a:ext cx="60199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מאה  שערים  גרים אנש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_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057400"/>
            <a:ext cx="56390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 ______  יהודי  .  הוא בן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2590920"/>
            <a:ext cx="43434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לה  חתן  ו_____  ממרוק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011320"/>
            <a:ext cx="5257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 _____  מתימ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666880"/>
            <a:ext cx="1866960" cy="3409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438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_______  תימני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70400" y="1447920"/>
            <a:ext cx="3019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ז __ __   תימני בחתונה שלה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286000"/>
            <a:ext cx="50292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מאה  שערים  יש  הרבה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__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רחווב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362320"/>
            <a:ext cx="24382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אנשים במאה  שער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ת המודעות  כמו  עיתון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895480"/>
            <a:ext cx="56242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________   בשכונה  אומרו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נשים  ______  בגדים  צנוע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2174760"/>
            <a:ext cx="34290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______ בשכונה מדברות  ג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על פוליטיק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581120"/>
            <a:ext cx="5562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אנשים  קוראים  את  ______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כמו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09680" y="1722600"/>
            <a:ext cx="57150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שכונה קמה בשנ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981080"/>
            <a:ext cx="2658960" cy="394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2133720"/>
            <a:ext cx="502920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אה  שערים  היא  ______</a:t>
            </a:r>
            <a:br>
              <a:rPr sz="4000"/>
            </a:b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אוד  דתי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814400"/>
            <a:ext cx="434340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כונ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768320"/>
            <a:ext cx="48769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ש  דת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7840" y="1447920"/>
            <a:ext cx="31431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קוו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751040"/>
            <a:ext cx="46479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תונ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676520"/>
            <a:ext cx="32670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ת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590920"/>
            <a:ext cx="449568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כל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447920"/>
            <a:ext cx="4724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BRANDT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'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______  יהודי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819440"/>
            <a:ext cx="60199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ודע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976400"/>
            <a:ext cx="48006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התפל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449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אנשים הדתיים  ______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כמו  באירופה  במאה ה-____  וה –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178000"/>
            <a:ext cx="52578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התחת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429000" y="19810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תונ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2017800"/>
            <a:ext cx="48006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לדים דתי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306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פתאו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 =  ____ 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581280" y="201924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התרחץ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6520" y="1887480"/>
            <a:ext cx="58672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סוף טוב  הכל טו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895480" cy="2689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1835280" cy="2209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200400" y="3522600"/>
            <a:ext cx="28004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שכונה יש הרב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  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144792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גברים  _____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פעמים ביו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590920"/>
            <a:ext cx="51051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יד  בתי הכנסת י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19320" y="1976400"/>
            <a:ext cx="480996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גברים  _______ במקווה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_______   שבת  ולפני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539720"/>
            <a:ext cx="4419720" cy="3872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2604960"/>
            <a:ext cx="39625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נשים  _______ במקווה    בזמנ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ח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687760"/>
            <a:ext cx="3657600" cy="3341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371484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76520" y="1360440"/>
            <a:ext cx="23619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9:02:51Z</dcterms:created>
  <dc:creator>Preferred Customer</dc:creator>
  <dc:description/>
  <dc:language>en-US</dc:language>
  <cp:lastModifiedBy>aschlezinger</cp:lastModifiedBy>
  <dcterms:modified xsi:type="dcterms:W3CDTF">2010-11-02T21:51:15Z</dcterms:modified>
  <cp:revision>2</cp:revision>
  <dc:subject/>
  <dc:title>מאה  שערים   שכונה  בירושלים </dc:title>
</cp:coreProperties>
</file>